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054160" y="733320"/>
            <a:ext cx="27496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96C5-E125-47CC-B971-A1FA0C0B9132}" type="slidenum">
              <a:rPr b="0" lang="el-G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054160" y="733320"/>
            <a:ext cx="27496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3 - Θέση αριθμού διαφάνειας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3773-4CD1-481B-8184-F9DC3D2C4F5B}" type="slidenum">
              <a:rPr b="0" lang="el-G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D831-C78C-44F0-A897-DA059ACEFDA1}" type="slidenum">
              <a:rPr b="0" lang="el-G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054160" y="733320"/>
            <a:ext cx="2749680" cy="3665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EEB-A624-4D06-8B20-D06632FD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D9C-D7E5-44E6-B58D-84898195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346-2E26-4A63-85F4-D4363072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A3B-171B-4C89-8DCB-31002CD7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51A0-80A2-4F07-B5CE-1EA08A94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BA64-938D-42B6-B734-4C0DD2C8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50C1-03E0-48A9-9ACD-601DF54C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9331-78AB-46B2-9021-29D74213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E079-23DC-4298-AF1F-D3602EDA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626724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0473-01B7-41D8-A00D-E0D9BD08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9675-AC6F-4E72-8274-3BE98D9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EA7-1DD9-4035-A166-6C2AAA39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407D-3DEA-48D7-8232-0B7298DB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53A6-FA0A-4CEB-A13B-D6E87EB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7926-15FE-4AE8-8A91-BBB8103F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E562-ED6C-4365-9905-1271FB0B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1A32-0B55-4885-9C85-9949494E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9D6-7D82-4C16-9F2E-7657D65E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9DD-FC39-47E8-8AED-E13C08C4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F70-2612-43A1-8B6A-86CC5AA0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626724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992-E5BE-4233-92D4-51C67A8E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DB4-8FCD-4270-9595-B2D79089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8B5-4D2E-42AA-90F1-65CA7992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4E7-C587-42F3-8C92-04BCB41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05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055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055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83055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0D6A-B895-469B-AB82-F59EB02C5139}" type="slidenum">
              <a:rPr b="0" lang="el-GR" sz="14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685800" y="17524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685800" y="2438280"/>
            <a:ext cx="6172200" cy="5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05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A95D-3A90-4EBD-AF63-F93FFF172DF3}" type="slidenum">
              <a:rPr b="0" lang="el-G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kt.gr/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09480" y="1371600"/>
            <a:ext cx="5943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1" lang="el-GR" sz="6000" spc="-1" strike="noStrike">
                <a:solidFill>
                  <a:srgbClr val="006600"/>
                </a:solidFill>
                <a:latin typeface="Comic Sans MS"/>
              </a:rPr>
              <a:t>φτά βήματα στη διαδικασία της αναζήτησης</a:t>
            </a:r>
            <a:endParaRPr b="0" lang="en-US" sz="60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2357280" y="5072040"/>
            <a:ext cx="2281320" cy="2247840"/>
          </a:xfrm>
          <a:prstGeom prst="rect">
            <a:avLst/>
          </a:prstGeom>
          <a:ln w="0">
            <a:noFill/>
          </a:ln>
        </p:spPr>
      </p:pic>
      <p:sp>
        <p:nvSpPr>
          <p:cNvPr id="93" name="5 - TextBox"/>
          <p:cNvSpPr/>
          <p:nvPr/>
        </p:nvSpPr>
        <p:spPr>
          <a:xfrm>
            <a:off x="714240" y="7786800"/>
            <a:ext cx="5500800" cy="703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Διαμαντούλα Νάκα, υπεύθυνη Σχολικής Βιβλιοθήκης 2</a:t>
            </a:r>
            <a:r>
              <a:rPr b="0" lang="el-GR" sz="2000" spc="-1" strike="noStrike" baseline="30000">
                <a:solidFill>
                  <a:srgbClr val="006600"/>
                </a:solidFill>
                <a:latin typeface="Comic Sans MS"/>
              </a:rPr>
              <a:t>ου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 Γυμνασίου Κοζάνης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267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Τι είναι οι περιοδικές εκδόσεις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286000"/>
            <a:ext cx="613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Περιοδικές εκδόσεις είναι εφημερίδες,περιοδικά που εκδίδονται ανά τακτά χρονικά διαστήματα ( ημερήσια, εβδομαδιαία, μηνιαία, διμηνιαία κ.λ.π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Αν γνωρίζω την τοποθεσία ενός άρθρου, την αναζητώ ηλεκτρονικά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Αν δεν γνωρίζω, αλλά θέλω να βρω γενικά κάποια άρθρ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Ξεκαθαρίζω που θα ψάξω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Σε σχολ. Εφημερίδε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Σε ελληνικές ή ξένες εφημερίδε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Σε δημοφιλή περιοδικ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Και στα τρί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Μπαίνω στην ιστοσελίδα της έκδοσης που επέλεξα και πάω στην αναζήτηση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Πληκτρολογώ λέξεις όπως αλκοόλ, νέοι, υγεία ή και μόνο την πρώτη και από το σύνολο των άρθρων που θα μου βρεί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,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θα μελετήσω αυτό που μ’ ενδιαφέρει και θα το αποθηκεύσω ή θα το εκτυπώσω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6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7" name="7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6267240" cy="11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Βήμα 5 :Πως βρίσκω πηγές στο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ternet</a:t>
            </a: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6058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8000"/>
                </a:solidFill>
                <a:latin typeface="Comic Sans MS"/>
              </a:rPr>
              <a:t>Ψάχνω σε μηχανές αναζήτηση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8000"/>
                </a:solidFill>
                <a:latin typeface="Tahoma"/>
              </a:rPr>
              <a:t>Ελλ. Μηχανές Αναζήτησ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Pathfin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Phant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Pi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Robb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8000"/>
                </a:solidFill>
                <a:latin typeface="Tahoma"/>
              </a:rPr>
              <a:t>Μηχανές Αναζήτησης Εξωτερικού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Metacrawl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Goog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Yahoo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Altavis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Lyc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Webcrawl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Teom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Looksmar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8000"/>
                </a:solidFill>
                <a:latin typeface="Comic Sans MS"/>
              </a:rPr>
              <a:t>Ψάχνω σε συγκεκριμένες ηλεκτρονικές διευθύνσει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4f81bd"/>
                </a:solidFill>
                <a:uFillTx/>
                <a:latin typeface="Comic Sans MS"/>
              </a:rPr>
              <a:t>Σημείωση: </a:t>
            </a: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Ολες οι μηχανές αναζήτησης δεν είναι το ίδιο αποτελεσματικές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8000"/>
                </a:solidFill>
                <a:latin typeface="Comic Sans MS"/>
              </a:rPr>
              <a:t>Κριτήρια αξιολόγησης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Εμφανίζουν πρώτα τις πιο αξιόλογες σελίδες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Έχουν μεγάλο εύρος αναζήτησης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Με ποιον τρόπο αναζητούν;(λέξη, φράση, αρχικά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Είναι εύχρηστες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Είναι γρήγορες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56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356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5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1" name="6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Πως θα αξιολογήσουμε μια ιστοσελίδα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514240"/>
            <a:ext cx="613404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Ακρίβεια :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Ποιος την κατασκεύασε, μπορούμε να επικοινωνήσουμε μαζί του; Ποιος ήταν ο σκοπός της κατασκευής της; Ο συγγραφέας έχει την απαιτούμενη ειδίκευση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Αυθεντικότητα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: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Ποιος δημοσίευσε τη σελίδα, έχει προσόντα; Βρίσκεται στην σελίδα κάποιου πανεπιστημίου ή ιδρύματο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Αντικειμενικότητα :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Ποιους στόχους έχει; Πόσο λεπτομερής είναι; Τι απόψεις εκφράζει; Μήπως έχει σκοπό μόνο τη διαφήμιση; Δείτε κάθε σελίδα και αναρωτηθείτε ποιος την έγραψε και για ποιο κοιν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Κυκλοφορία :</a:t>
            </a:r>
            <a:r>
              <a:rPr b="1" lang="el-GR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Πότε βγήκε; Πότε ανανεώθηκε για τελευταία φορά; Πόσο συχνά ανανεώνεται; Μήπως περιέχει πολλά που δεν ανταποκρίνονται; Μήπως οι πληροφορίες που περιέχει δεν ισχύουν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Κάλυψη :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Μπορείτε να δείτε όλες τις πληροφορίες ελεύθερα; Μήπως περιέχει όλο εικόνες; Παρουσιάζονται σωστά όλες οι πληροφορίε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5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5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Πως βρίσκω οπτικοακουστικό υλικό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514240"/>
            <a:ext cx="6134040" cy="39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Comic Sans MS"/>
              </a:rPr>
              <a:t>Αναζήτηση στον κατάλογο της σχολικής βιβλιοθήκης στο «Οπτικοακουστικό υλικό» ή «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deorecording</a:t>
            </a:r>
            <a:r>
              <a:rPr b="0" lang="el-GR" sz="2400" spc="-1" strike="noStrike">
                <a:solidFill>
                  <a:srgbClr val="008000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Comic Sans MS"/>
              </a:rPr>
              <a:t>Αναζήτηση στο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Internet </a:t>
            </a:r>
            <a:r>
              <a:rPr b="0" lang="el-GR" sz="2400" spc="-1" strike="noStrike">
                <a:solidFill>
                  <a:srgbClr val="008000"/>
                </a:solidFill>
                <a:latin typeface="Comic Sans MS"/>
              </a:rPr>
              <a:t>μέσω μηχανών αναζήτησης (π.χ. Ινδία,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de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Feature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ocumentary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ound reco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5 - Αριστερό βέλος"/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9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Βήμα 6. Πως θα αξιολογήσω τις πηγές μου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514240"/>
            <a:ext cx="61340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Μπορούμε να αξιολογήσουμε κάποιες πηγές μόνο από τη βιβλιογραφία. Προσέχουμ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τον συγγραφέα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(θέση, μόρφωση, ειδίκευση, πείρα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ημερομηνία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δημοσίευσης ή χρόνος έκδοση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έκδοση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(οι πολλές εκδόσεις δείχνουν ότι πρόκειται για πηγή που χρησιμοποιείται πολ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εκδότη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εφημερίδα-περιοδικό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(επιστημονική ή λαϊκή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5 - Αριστερό βέλος"/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3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00"/>
                </a:solidFill>
                <a:latin typeface="Comic Sans MS"/>
              </a:rPr>
              <a:t>Πως θα αξιολογήσετε τις πηγές σας από το περιεχόμενο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514240"/>
            <a:ext cx="613404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Ανάλυση περιεχομένο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Διαβάστε τον πρόλογο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Δείτε τα περιεχόμεν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Δείτε αν περιλαμβάνει βιβλιογραφί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Διαβάστε τα κεφάλαια που αφορούν το θέμα σα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Σε τι κοινό απευθύνεται η έκδοση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Οι πληροφορίες αφορούν γεγονότα ή απόψεις του συγγραφέα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Οι πληροφορίες αξίζουν; Είναι καλά τεκμηριωμένες ή είναι αμφισβητούμενες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Συνεχίζουν ιδέες άλλων συγγραφέων ή είναι ριζικά διαφορετικές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Οι απόψεις του συγγραφέα εκτίθενται νηφάλια και αντικειμενικά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Το υλικό βασίζεται σε πρωτεύουσες ή δευτερεύουσες πηγέ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Το υλικό παρουσιάζεται λογικά; τονίζονται και παρουσιάζονται καθαρά τα κύρια θέματά του; Είναι ευκολοδιάβαστο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Διαβάστε κριτικές που έκαναν άλλοι γι’ αυτό το βιβλί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5 - Αριστερό βέλος"/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00"/>
                </a:solidFill>
                <a:latin typeface="Comic Sans MS"/>
              </a:rPr>
              <a:t>Βήμα 7:</a:t>
            </a:r>
            <a:r>
              <a:rPr b="0" lang="el-G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l-GR" sz="3200" spc="-1" strike="noStrike">
                <a:solidFill>
                  <a:srgbClr val="006600"/>
                </a:solidFill>
                <a:latin typeface="Comic Sans MS"/>
              </a:rPr>
              <a:t>Παράθεση των πηγών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Βιβλία: Τρία στοιχεί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όνομα συγγραφέ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τίτλος βιβλίο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πληροφορίες σχετικά με την έκδοση(τόπος έκδοσης, εκδότης, χρόνος έκδοση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π.χ. Σεφέρης Γ., Ποιήματα, Αθήνα, Ερμής, 197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Αρθρα εφημερίδων - περιοδικώ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Επίθετο συγγραφέ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Ονομα συγγραφέ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«Τίτλος άρθρου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Τίτλος περιοδικού ή εφημερίδα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Αριθμός τόμου ή τεύχου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Ημερομηνί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Αριθμός σελίδ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5 - Αριστερό βέλος"/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1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62672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Comic Sans MS"/>
              </a:rPr>
              <a:t>              </a:t>
            </a:r>
            <a:r>
              <a:rPr b="1" lang="el-GR" sz="3200" spc="-1" strike="noStrike">
                <a:solidFill>
                  <a:srgbClr val="006600"/>
                </a:solidFill>
                <a:latin typeface="Comic Sans MS"/>
              </a:rPr>
              <a:t>Γενικές αρχές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Εργαστείτε από τα γενικά στα ειδικά (από τις γενικές πληροφορίες στις ειδικές και πιο πρόσφατε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Σημειώστε ό,τι βρήκατε και πού το βρήκατε (κρατήστε τα πλήρη στοιχεία γιατί θα τα χρειαστείτ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Θέλετε να είστε σίγουροι ότι βαδίζετε σωστά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l-GR" sz="3200" spc="-1" strike="noStrike">
                <a:solidFill>
                  <a:srgbClr val="4f81bd"/>
                </a:solidFill>
                <a:latin typeface="Tahoma"/>
              </a:rPr>
              <a:t>Ρωτήστε τον υπεύθυνο καθηγητή ή τον υπεύθυνο      βιβλιοθήκη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6 - TextBox"/>
          <p:cNvSpPr/>
          <p:nvPr/>
        </p:nvSpPr>
        <p:spPr>
          <a:xfrm>
            <a:off x="357120" y="8143920"/>
            <a:ext cx="6215040" cy="3070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ηγή :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ibrary.cornell.edu/olinuris/ref/research/skill1.htm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φτά βήματα στη διαδικασία της αναζήτησης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Περιγράφουν μια απλή στρατηγική αναζήτησης πληροφοριών για μια εργασί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Βοηθούν να τεκμηριώσουμε τις πηγές που βρήκαμ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Βοηθούν να αξιολογήσουμε τις πηγές μα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Είναι μια διαδικασία επαναλαμβανόμενη</a:t>
            </a: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42720" y="2214360"/>
            <a:ext cx="61340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1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  <a:hlinkClick r:id="rId1" action="ppaction://hlinksldjump"/>
              </a:rPr>
              <a:t>T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αυτότητα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  <a:hlinkClick r:id="rId3" action="ppaction://hlinksldjump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4" action="ppaction://hlinksldjump"/>
              </a:rPr>
              <a:t>ενός θέματο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2: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5" action="ppaction://hlinksldjump"/>
              </a:rPr>
              <a:t>Εξέταση ενός θέματο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6" action="ppaction://hlinksldjump"/>
              </a:rPr>
              <a:t>Εύρεση και εξέταση βιβλιογραφία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7" action="ppaction://hlinksldjump"/>
              </a:rPr>
              <a:t>Πρόβλημ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ήμα 3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8" action="ppaction://hlinksldjump"/>
              </a:rPr>
              <a:t>Πως βρίσκουμε βιβλία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ήμα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9" action="ppaction://hlinksldjump"/>
              </a:rPr>
              <a:t>4:Αναζήτηση σε καταλόγους περιοδικών εκδόσεω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10" action="ppaction://hlinksldjump"/>
              </a:rPr>
              <a:t>Τι είναι οι περιοδικές εκδόσει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5 :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11" action="ppaction://hlinksldjump"/>
              </a:rPr>
              <a:t>Πως βρίσκω πηγές στο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hlinkClick r:id="rId12" action="ppaction://hlinksldjump"/>
              </a:rPr>
              <a:t>Internet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13" action="ppaction://hlinksldjump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14" action="ppaction://hlinksldjump"/>
              </a:rPr>
              <a:t>Πως θα αξιολογήσω μια ιστοσελίδα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15" action="ppaction://hlinksldjump"/>
              </a:rPr>
              <a:t>Πως βρίσκω οπτικοακουστικό υλικ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6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16" action="ppaction://hlinksldjump"/>
              </a:rPr>
              <a:t>Πως θα αξιολογήσω τις πηγές μο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17" action="ppaction://hlinksldjump"/>
              </a:rPr>
              <a:t>Αξιολόγηση πηγών από το περιεχόμεν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7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18" action="ppaction://hlinksldjump"/>
              </a:rPr>
              <a:t>Παράθεση των πηγώ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φτά βήματα στη διαδικασία της αναζήτησης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8" name="4 - Δεξιό βέλος"/>
          <p:cNvSpPr/>
          <p:nvPr/>
        </p:nvSpPr>
        <p:spPr>
          <a:xfrm>
            <a:off x="5429160" y="8643960"/>
            <a:ext cx="100008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9" name="5 - TextBox">
            <a:hlinkClick r:id="rId19" action="ppaction://hlinksldjump"/>
          </p:cNvPr>
          <p:cNvSpPr/>
          <p:nvPr/>
        </p:nvSpPr>
        <p:spPr>
          <a:xfrm>
            <a:off x="5572080" y="878688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κλικ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68580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Βήμα 1: 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T</a:t>
            </a: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αυτότητα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ενός θέματος</a:t>
            </a:r>
            <a:r>
              <a:rPr b="0" lang="el-GR" sz="3200" spc="-1" strike="noStrike">
                <a:solidFill>
                  <a:srgbClr val="006600"/>
                </a:solidFill>
                <a:latin typeface="Comic Sans MS"/>
              </a:rPr>
              <a:t>            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5970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Προσδιορίστε την ταυτότητα και αναπτύξτε το θέμα σα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α)Αν δεν έχετε βρεί κάποιο θέμα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6600"/>
                </a:solidFill>
                <a:latin typeface="Comic Sans MS"/>
              </a:rPr>
              <a:t>Ρωτήστε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τον καθηγητή σα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              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τον υπεύθυνο βιβλιοθήκ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6600"/>
                </a:solidFill>
                <a:latin typeface="Comic Sans MS"/>
              </a:rPr>
              <a:t>Ψάξτε   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ε εφημερίδες (άρθρα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               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ε περιοδικ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               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ε εγκυκλοπαίδειε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6600"/>
                </a:solidFill>
                <a:latin typeface="Comic Sans MS"/>
              </a:rPr>
              <a:t>Τέλος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 δείτε τι σας ενδιαφέρει περισσότερο, ποιο είναι το θέμα για το οποίο θα θέλατε να μάθετε περισσότερ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Β)Αν έχετε βρει θέμα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Διατυπώστε το σε μορφή ερωτήματος π.χ.Θέμα: Τα αλκοολούχα ποτά και οι νέοι.Ερώτημα: Ποια είναι η επίδραση των αλκοολούχων ποτών στην υγεία των νέων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Βρείτε λέξεις-κλειδιά στο ερώτημά σας π.χ.αλκ.ποτά,υγεία,νέοι.</a:t>
            </a: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5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3" name="6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Βήμα 2:Εξέταση ενός θέματος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85520" y="2690280"/>
            <a:ext cx="59310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Εξετάστε το θέμα σας βλέποντας τις βασικές αρχές του ή τις λέξεις-κλειδιά. Αυτοί οι όροι θα είναι οι βασικοί όροι αναζήτησης στη βιβλιοθήκη ή στο Intern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Βρείτε μία ή περισσότερες πηγές πληροφοριών για να τις μελετήσετε. Θα σας βοηθήσουν να αντιληφθείτε το γενικό πλαίσιο της εργασίας σας και θα βρείτε γενικά τι πληροφορίες υπάρχουν για το θέμα σας.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Οι πιο συχνές πηγές πληροφοριών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Εγκυκλοπαίδειες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Λεξικ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Βιβλί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Βιβλιογραφίε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Περιοδικές εκδόσει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Οπτικοακουστικό υλικ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6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7" name="7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Εύρεση και εξέταση βιβλιογραφίας.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209680"/>
            <a:ext cx="6134040" cy="657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Που βρίσκω μια βιβλιογραφία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το τέλος των άρθρων μιας εγκυκλοπαίδεια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το πίσω μέρος κάποιων βιβλί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πάνια στα λήμματα ενός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λεξικού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Αυτές οι πηγές συχνά αποτελούν ένα καλό ξεκίνημα για περαιτέρω έρευνα ενός θέματος. Πολλές από τις πηγές που θα βρώ σε βιβλιογραφίες έχουν τις δικές τους βιβλιογραφίες στο τέλο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Πως εξετάζω μια βιβλιογραφία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Διαβάζω προσεκτικά και σημειώνω κάθε χρήσιμη πηγή που αναφέρετα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βιβλί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εφημερίδες, περιοδικ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διευθύνσεις στοInternet κ.λ.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Χρησιμοποιώντας αυτή την τεχνική ρουτίνας και ακολουθώντας τις πηγές των βιβλιογραφιών μπορείτε να συγκεντρώσετε έναν εκπληκτικά μεγάλο αριθμό βιβλίων και άρθρων για ένα θέμα.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5 - Αριστερό βέλος">
            <a:hlinkClick r:id="rId1" action="ppaction://hlinksldjump"/>
          </p:cNvPr>
          <p:cNvSpPr/>
          <p:nvPr/>
        </p:nvSpPr>
        <p:spPr>
          <a:xfrm>
            <a:off x="2928960" y="8572680"/>
            <a:ext cx="1071720" cy="571320"/>
          </a:xfrm>
          <a:prstGeom prst="left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1" name="6 - TextBox"/>
          <p:cNvSpPr/>
          <p:nvPr/>
        </p:nvSpPr>
        <p:spPr>
          <a:xfrm>
            <a:off x="3214800" y="87152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ΠΡΟΒΛΗΜΑ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Τι κάνω όταν οι πληροφορίες είναι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υπερβολικά πολλές ή πολύ λίγες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Αν οι πληροφορίες είναι πάρα πολλές «στενέψτε» το θέμα σα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π.χ. Αλκοολούχα ποτά και υγεί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Μπύρα και υγεί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Αν οι πληροφορίες είναι πολύ λίγες «πλατύνετε» το θέμα σα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π.χ. Υγεία μαθητών-Υγεία νέ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Μπύρα, κρασί, λικέρ-αλκοολούχα ποτά-αλκοόλ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5 - Αριστερό βέλος">
            <a:hlinkClick r:id="rId1" action="ppaction://hlinksldjump"/>
          </p:cNvPr>
          <p:cNvSpPr/>
          <p:nvPr/>
        </p:nvSpPr>
        <p:spPr>
          <a:xfrm>
            <a:off x="2786040" y="821520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5" name="6 - TextBox"/>
          <p:cNvSpPr/>
          <p:nvPr/>
        </p:nvSpPr>
        <p:spPr>
          <a:xfrm>
            <a:off x="3071880" y="835812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2672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</a:t>
            </a: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ήμα 3: Πως βρίσκουμε βιβλία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3080" y="2514240"/>
            <a:ext cx="6210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Αναζήτηση στο κατάλληλο ράφι της σχολικής βιβλιοθήκης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μετά από υπόδειξη του υπευθύνο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μέσω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PC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στο ΑΒΕΚΤ, για να δούμε τι υπάρχει στη σχολ. βιβλιοθήκη για το θέμα μα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Όταν πάρουμε ένα βιβλίο από το ράφι, ψάχνουμε στη βιβλιογραφία του για συμπληρωματικές πηγές. Αυτές μας οδηγούν σε άλλα βιβλί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Αναζήτηση στη Δημοτική Βιβλιοθήκη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σε ελληνική βάση δεδομένων:</a:t>
            </a:r>
            <a:r>
              <a:rPr b="0" lang="en-US" sz="2000" spc="-1" strike="noStrike">
                <a:solidFill>
                  <a:srgbClr val="4f81bd"/>
                </a:solidFill>
                <a:latin typeface="Comic Sans MS"/>
              </a:rPr>
              <a:t>www.ekt.gr-</a:t>
            </a:r>
            <a:r>
              <a:rPr b="0" lang="el-GR" sz="2000" spc="-1" strike="noStrike">
                <a:solidFill>
                  <a:srgbClr val="4f81bd"/>
                </a:solidFill>
                <a:latin typeface="Comic Sans MS"/>
              </a:rPr>
              <a:t>Σχολική βιβλιοθήκη.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Μας οδηγεί σε ελληνικές και ξενόγλωσσες πηγέ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με μηχανές αναζήτησης στο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Internet</a:t>
            </a:r>
            <a:r>
              <a:rPr b="0" lang="el-GR" sz="20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ή σε καταλόγους άλλων βιβλιοθηκών π.χ. Πανεπιστήμιο Θεσ/νίκης ή ΤΕΙ Κοζάνη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5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9" name="6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5530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</a:t>
            </a: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ήμα 4:Αναζήτηση σε καταλόγους περιοδικών εκδόσεων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Κατάλογος περιοδικών</a:t>
            </a:r>
            <a:r>
              <a:rPr b="0" lang="el-GR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της σχολικής βιβλιοθήκης. Αναζήτηση άρθρω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Κατάλογος συλλογών εφημερίδων σχολικής βιβλιοθήκη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στο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  <a:hlinkClick r:id="rId1"/>
              </a:rPr>
              <a:t>www.ekt.g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mic Sans MS"/>
              </a:rPr>
              <a:t>   </a:t>
            </a:r>
            <a:r>
              <a:rPr b="0" lang="el-GR" sz="2000" spc="-1" strike="noStrike">
                <a:solidFill>
                  <a:srgbClr val="4f81bd"/>
                </a:solidFill>
                <a:latin typeface="Comic Sans MS"/>
              </a:rPr>
              <a:t>κλικ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Σχολική βιβλιοθήκη </a:t>
            </a:r>
            <a:r>
              <a:rPr b="0" lang="el-GR" sz="2000" spc="-1" strike="noStrike">
                <a:solidFill>
                  <a:srgbClr val="4f81bd"/>
                </a:solidFill>
                <a:latin typeface="Comic Sans MS"/>
              </a:rPr>
              <a:t>κλικ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εφημερίδες,περιοδικά (ελληνικά και ξένα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σε εφημερίδες που προσφέρουν αυτήν την υπηρεσία, για άρθρα που αφορούν το θέμα μας(π.χ. Βήμα, Καθημερινή κ.λ.π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4f81bd"/>
                </a:solidFill>
                <a:uFillTx/>
                <a:latin typeface="Comic Sans MS"/>
              </a:rPr>
              <a:t>Σημείωση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Όταν μπαίνουμε σε τέτοιους καταλόγους πρέπει πάντα να σημειώνουμε την ηλεκτρονική διεύθυνση, όπου βρίσκουμε κάτι χρήσιμο, ώστε άλλη φορά να μπορέσουμε να το ξαναβρούμ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5 - Αριστερό βέλος">
            <a:hlinkClick r:id="rId2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3" name="6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3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09:15:38Z</dcterms:created>
  <dc:creator>SCHOOL</dc:creator>
  <dc:description/>
  <dc:language>en-US</dc:language>
  <cp:lastModifiedBy>Πηνελόπη</cp:lastModifiedBy>
  <dcterms:modified xsi:type="dcterms:W3CDTF">2011-11-15T06:51:36Z</dcterms:modified>
  <cp:revision>29</cp:revision>
  <dc:subject/>
  <dc:title>Eφτά βήματα στη διαδικασία της αναζήτησης</dc:title>
</cp:coreProperties>
</file>